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0DD-CC9B-41B9-97BC-FE4F9DB3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B7C-7466-4942-8B85-510BA492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AF2-6E78-4031-A9D9-CCDE24E6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429-6E6D-4B67-8152-9E228B93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4D9-91E3-452D-B4D7-EBEA977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D35-C4B9-44B2-A921-EF085AF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D1-8A1A-471F-99E6-47066ED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A8F-153B-498D-AC6B-A7FE7A9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B5B-92EB-4B7C-A465-802FAC35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43F-303B-4668-AF6C-502F6B9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DC9-0DBD-4E6C-A7E8-974E2817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3FD-9885-46B3-A329-358C8D1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F35-2B9B-4586-9C84-EFDDA357B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CommonBulle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reaction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reactions are reactions that will happen - but we can’t tell how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mechanism- the steps by which a reaction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are rever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ducts accumulate they can begin to turn back into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on the rate will depend on only the amount of reactants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measure the reactants as soon as they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itial rate meth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ke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entration of the products do not appear in the rate law because this is an initial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der must be determined experimentall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obtained from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7621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ate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find that the rate will only depend on the concentration of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e law 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alled the rate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is the order of the reactant, usually a positive inte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90720" y="617760"/>
            <a:ext cx="71625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 N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           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 + 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143000"/>
            <a:ext cx="7617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reaction by the rate of appearance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said to 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' 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Prop BT"/>
                <a:ea typeface="SymbolProp BT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O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k'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re are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2 x Rate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 k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 x k'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k = 2 x k'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990720" y="617760"/>
            <a:ext cx="71625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 N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           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 + 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143000"/>
            <a:ext cx="7617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Rate law - describes how rate depends on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Rate Law - Describes how concentration depends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type of differential rate law there is an integrated rate law and vice ver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laws can help us better understand reaction mech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termining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determine the form of the rate law (especially its or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determined from experiment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2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         4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on’t play a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9568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295280"/>
            <a:ext cx="739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(mol/L)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Rate (mol/L(s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90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5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use the following equation to sole the order of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for m to get the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3526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3526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8760" y="1166400"/>
            <a:ext cx="799164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rate at twice the concentration is twice as fast the rate law must b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-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Prop BT"/>
                <a:ea typeface="SymbolProp BT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k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y this reaction is first order in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way to determine order is to run the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method of Initial R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thod requires that a reaction be run several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concentrations of the reactants are va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rate is measured just after the reactants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the effect of the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Conc. of A at 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Conc. of A at t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</a:t>
            </a:r>
            <a:r>
              <a:rPr b="1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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A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concentration per uni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5791320"/>
            <a:ext cx="10666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590920"/>
            <a:ext cx="5181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5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3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l form of the Rate Law is 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experimental data to determine the values of n,m,and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4840" y="255276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0040" y="685800"/>
            <a:ext cx="452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l concentrations (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8040" y="1403280"/>
            <a:ext cx="197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e (M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400480"/>
            <a:ext cx="111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5800" y="1971720"/>
            <a:ext cx="1486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0560" y="2000160"/>
            <a:ext cx="11858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0760" y="2000160"/>
            <a:ext cx="1143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1520" y="1042920"/>
            <a:ext cx="6223680" cy="754200"/>
            <a:chOff x="371520" y="1042920"/>
            <a:chExt cx="6223680" cy="754200"/>
          </a:xfrm>
        </p:grpSpPr>
        <p:grpSp>
          <p:nvGrpSpPr>
            <p:cNvPr id="134" name=""/>
            <p:cNvGrpSpPr/>
            <p:nvPr/>
          </p:nvGrpSpPr>
          <p:grpSpPr>
            <a:xfrm>
              <a:off x="371520" y="1042920"/>
              <a:ext cx="3114360" cy="744120"/>
              <a:chOff x="371520" y="1042920"/>
              <a:chExt cx="3114360" cy="744120"/>
            </a:xfrm>
          </p:grpSpPr>
          <p:sp>
            <p:nvSpPr>
              <p:cNvPr id="135" name=""/>
              <p:cNvSpPr/>
              <p:nvPr/>
            </p:nvSpPr>
            <p:spPr>
              <a:xfrm>
                <a:off x="371520" y="1042920"/>
                <a:ext cx="3114360" cy="39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89" y="9257"/>
                    </a:moveTo>
                    <a:arcTo wR="10800" hR="10800" stAng="-492762" swAng="58927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89" y="9257"/>
                    </a:moveTo>
                    <a:arcTo wR="10800" hR="10800" stAng="-492762" swAng="589276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73280" y="1444680"/>
                <a:ext cx="513720" cy="34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8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8780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481560" y="1054080"/>
              <a:ext cx="3113640" cy="743040"/>
              <a:chOff x="3481560" y="1054080"/>
              <a:chExt cx="3113640" cy="743040"/>
            </a:xfrm>
          </p:grpSpPr>
          <p:sp>
            <p:nvSpPr>
              <p:cNvPr id="138" name=""/>
              <p:cNvSpPr/>
              <p:nvPr/>
            </p:nvSpPr>
            <p:spPr>
              <a:xfrm>
                <a:off x="3481560" y="1054080"/>
                <a:ext cx="3113640" cy="39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922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9226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1520" y="1454040"/>
                <a:ext cx="514080" cy="34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3" y="0"/>
                    </a:moveTo>
                    <a:arcTo wR="10800" hR="10800" stAng="-5421220" swAng="54212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3" y="0"/>
                    </a:moveTo>
                    <a:arcTo wR="10800" hR="10800" stAng="-5421220" swAng="5421220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390600" y="2581200"/>
            <a:ext cx="842004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71560" y="4871520"/>
            <a:ext cx="748656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w we have to see how the rate changes with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tegrated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he reaction concentration as a function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of the equation depends on the order of the rate law (differenti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   Rate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only work with n=0, 1,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495680"/>
            <a:ext cx="1143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  2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4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found the Rate = k[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oncentration doubles rate dou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tegrate this equation with respect to time we get the Integrated Rat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- kt + ln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initial concen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1600200"/>
            <a:ext cx="6098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   Rate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= k[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[A] = - kt + ln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form y = mx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aph of ln[A] vs time is a straigh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tting the straight line you can prove it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expressed in a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tting the straight line you can prove it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expressed in a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89240" y="3657600"/>
                <a:ext cx="275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295280" y="541008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required to reach half the original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 when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required to reach half the original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first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 when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960640" y="3505320"/>
                <a:ext cx="275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51040" y="4868640"/>
            <a:ext cx="7524720" cy="64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(2) = k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693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to reach half the original concentration does not depend on the starting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fin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ond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rate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[A] = kt + 1/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aight line if 1/[A] vs t is grap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k and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can calculate [A] at any time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ond Order 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 at 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038480"/>
                <a:ext cx="3429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666880" y="251460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Zero Order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does not change with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 [A] = -kt +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  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 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 when reaction happens on a surface because the surface area stay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pplies to enzyme chemi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Zero Order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0880" y="692280"/>
            <a:ext cx="7759440" cy="4787640"/>
          </a:xfrm>
          <a:prstGeom prst="rect">
            <a:avLst/>
          </a:prstGeom>
          <a:solidFill>
            <a:srgbClr val="fafd00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5627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85800"/>
            <a:ext cx="304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19320"/>
            <a:ext cx="7772400" cy="320040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4560" y="692280"/>
            <a:ext cx="7759800" cy="4787640"/>
          </a:xfrm>
          <a:prstGeom prst="rect">
            <a:avLst/>
          </a:prstGeom>
          <a:solidFill>
            <a:srgbClr val="fafd00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55627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85800"/>
            <a:ext cx="3049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219320"/>
            <a:ext cx="7772400" cy="320040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828800"/>
            <a:ext cx="0" cy="144792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276720"/>
            <a:ext cx="350532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60020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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A]/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42900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1600200"/>
            <a:ext cx="175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k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5146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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Complicated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5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3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 we found the rate law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nvestigate this reaction rate we need to control th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981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433440"/>
            <a:ext cx="71629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et up the experiment so that two of the reactants are in large ex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ceeds 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changes noticeab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and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ate law can be re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’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k’ = k[B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called a pseudo first order rat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k’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040" y="433440"/>
            <a:ext cx="71629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 of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age 294 in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down 1/3 a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2160" y="-381240"/>
            <a:ext cx="1463004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cf0e3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ies of steps that actually occur in a chemical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cs can tell us something about the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lanced equation does not tell us how the reactants becom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sed mechanism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 + 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 +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medi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formed then consumed in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8288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5053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two reactions is called an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elementary 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for a reaction can be written from its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molecularity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ity is the number of pieces that must com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ni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 involves one molecule - Rate is first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 - requires two molecules - Rate is second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r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- requires three molecules - Rate is third or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r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s are almost never heard of because the chances of three molecules coming into contact at the same time are minis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A     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B      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A+B      Products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+B       Products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B+C      Produc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[B][C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06668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1676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895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9625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45720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to get rid of intermedi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reactions that form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 the reactions are fast and irreversible - the concentration of the intermediate is based on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formed by a reversible reaction set the rates equ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ed in reversible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=k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19810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0400" y="2992320"/>
            <a:ext cx="108108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733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298240" y="3139560"/>
            <a:ext cx="108108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ed in fast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I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+ 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 + Br         I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+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IBr][Br] but [Br]= [IBr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IBr][IBr] = k[IBr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810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12408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7339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2670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llision theo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ust collide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 affects rates because collisions are more lik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ollide har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nd rate are re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small number of collisions produce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2160" y="-381240"/>
            <a:ext cx="1463004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76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cf0e3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2160" y="4192560"/>
            <a:ext cx="1463004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92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9254"/>
              </a:path>
            </a:pathLst>
          </a:custGeom>
          <a:noFill/>
          <a:ln cap="rnd" w="255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3341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[NH</a:t>
            </a:r>
            <a:r>
              <a:rPr b="0" lang="en-US" sz="3200" spc="-1" strike="noStrike" baseline="-25000">
                <a:solidFill>
                  <a:srgbClr val="00dfca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60880" y="1736640"/>
            <a:ext cx="0" cy="225108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60880" y="2673360"/>
            <a:ext cx="1708200" cy="279360"/>
          </a:xfrm>
          <a:prstGeom prst="line">
            <a:avLst/>
          </a:prstGeom>
          <a:ln w="25560">
            <a:solidFill>
              <a:srgbClr val="e84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37400" y="2197080"/>
            <a:ext cx="292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400"/>
                </a:solidFill>
                <a:latin typeface="Courier New"/>
              </a:rPr>
              <a:t>Activation Energy E</a:t>
            </a:r>
            <a:r>
              <a:rPr b="1" lang="en-US" sz="3200" spc="-1" strike="noStrike" baseline="-25000">
                <a:solidFill>
                  <a:srgbClr val="e844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9400" y="933480"/>
            <a:ext cx="28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ated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88840" y="838080"/>
            <a:ext cx="769644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36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8760" y="5943600"/>
            <a:ext cx="701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3880" y="1738440"/>
            <a:ext cx="724356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2768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4003560"/>
            <a:ext cx="5600520" cy="0"/>
          </a:xfrm>
          <a:prstGeom prst="line">
            <a:avLst/>
          </a:prstGeom>
          <a:ln w="25560">
            <a:solidFill>
              <a:srgbClr val="e84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54880" y="4395960"/>
            <a:ext cx="7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4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e84400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430440"/>
            <a:ext cx="4093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e84400"/>
                </a:solidFill>
                <a:latin typeface="Courier New"/>
              </a:rPr>
              <a:t>}</a:t>
            </a:r>
            <a:endParaRPr b="0" lang="en-US" sz="1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88840" y="439560"/>
            <a:ext cx="7607520" cy="5580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36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28760" y="5943600"/>
            <a:ext cx="701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93880" y="1738440"/>
            <a:ext cx="724356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040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B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2768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NO + 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41760" y="5745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Br---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8120" y="1384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Br---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65680" y="915840"/>
            <a:ext cx="17280" cy="559080"/>
          </a:xfrm>
          <a:prstGeom prst="line">
            <a:avLst/>
          </a:prstGeom>
          <a:ln w="25560">
            <a:solidFill>
              <a:srgbClr val="e84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4959360"/>
            <a:ext cx="60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89440" y="1752480"/>
            <a:ext cx="24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Transition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6800" y="1736640"/>
            <a:ext cx="1412640" cy="41112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- the minimum energy needed to make a reaction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Complex or Transition State - The arrangement of atoms at the top of the energy barr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 reaction rate should increase wit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 more molecules have the energy required to get over the barr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ollisions with the necessary energy increases exponent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collisions with the required 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energy = 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= total coll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is Euler’s number (opposite of l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ideal gas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is temperature in Ke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d rate is less than the number of collisions that have the minimum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Molecular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into equation as p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ric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05080" y="741240"/>
            <a:ext cx="558720" cy="597600"/>
            <a:chOff x="1405080" y="741240"/>
            <a:chExt cx="558720" cy="597600"/>
          </a:xfrm>
        </p:grpSpPr>
        <p:sp>
          <p:nvSpPr>
            <p:cNvPr id="283" name=""/>
            <p:cNvSpPr/>
            <p:nvPr/>
          </p:nvSpPr>
          <p:spPr>
            <a:xfrm>
              <a:off x="1405080" y="74124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87520" y="75888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90680" y="1266840"/>
            <a:ext cx="590400" cy="558720"/>
            <a:chOff x="1390680" y="1266840"/>
            <a:chExt cx="590400" cy="558720"/>
          </a:xfrm>
        </p:grpSpPr>
        <p:sp>
          <p:nvSpPr>
            <p:cNvPr id="286" name=""/>
            <p:cNvSpPr/>
            <p:nvPr/>
          </p:nvSpPr>
          <p:spPr>
            <a:xfrm>
              <a:off x="1390680" y="126684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93280" y="12938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24080" y="1709640"/>
            <a:ext cx="871560" cy="754200"/>
            <a:chOff x="1324080" y="1709640"/>
            <a:chExt cx="871560" cy="754200"/>
          </a:xfrm>
        </p:grpSpPr>
        <p:sp>
          <p:nvSpPr>
            <p:cNvPr id="289" name=""/>
            <p:cNvSpPr/>
            <p:nvPr/>
          </p:nvSpPr>
          <p:spPr>
            <a:xfrm>
              <a:off x="1324080" y="1709640"/>
              <a:ext cx="80460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55840" y="18223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706840" y="731880"/>
            <a:ext cx="558720" cy="597240"/>
            <a:chOff x="2706840" y="731880"/>
            <a:chExt cx="558720" cy="597240"/>
          </a:xfrm>
        </p:grpSpPr>
        <p:sp>
          <p:nvSpPr>
            <p:cNvPr id="292" name=""/>
            <p:cNvSpPr/>
            <p:nvPr/>
          </p:nvSpPr>
          <p:spPr>
            <a:xfrm>
              <a:off x="2706840" y="7318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9280" y="749160"/>
              <a:ext cx="393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692440" y="1257480"/>
            <a:ext cx="590400" cy="558720"/>
            <a:chOff x="2692440" y="1257480"/>
            <a:chExt cx="590400" cy="558720"/>
          </a:xfrm>
        </p:grpSpPr>
        <p:sp>
          <p:nvSpPr>
            <p:cNvPr id="295" name=""/>
            <p:cNvSpPr/>
            <p:nvPr/>
          </p:nvSpPr>
          <p:spPr>
            <a:xfrm>
              <a:off x="2692440" y="125748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95040" y="128412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625840" y="1700280"/>
            <a:ext cx="871560" cy="753840"/>
            <a:chOff x="2625840" y="1700280"/>
            <a:chExt cx="871560" cy="753840"/>
          </a:xfrm>
        </p:grpSpPr>
        <p:sp>
          <p:nvSpPr>
            <p:cNvPr id="298" name=""/>
            <p:cNvSpPr/>
            <p:nvPr/>
          </p:nvSpPr>
          <p:spPr>
            <a:xfrm>
              <a:off x="2625840" y="1700280"/>
              <a:ext cx="80460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7600" y="181296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075040" y="211464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1760" y="795240"/>
            <a:ext cx="558720" cy="597600"/>
            <a:chOff x="5711760" y="795240"/>
            <a:chExt cx="558720" cy="597600"/>
          </a:xfrm>
        </p:grpSpPr>
        <p:sp>
          <p:nvSpPr>
            <p:cNvPr id="302" name=""/>
            <p:cNvSpPr/>
            <p:nvPr/>
          </p:nvSpPr>
          <p:spPr>
            <a:xfrm>
              <a:off x="5711760" y="79524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4200" y="81288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7360" y="1320840"/>
            <a:ext cx="590760" cy="558720"/>
            <a:chOff x="5697360" y="1320840"/>
            <a:chExt cx="590760" cy="558720"/>
          </a:xfrm>
        </p:grpSpPr>
        <p:sp>
          <p:nvSpPr>
            <p:cNvPr id="305" name=""/>
            <p:cNvSpPr/>
            <p:nvPr/>
          </p:nvSpPr>
          <p:spPr>
            <a:xfrm>
              <a:off x="5697360" y="1320840"/>
              <a:ext cx="59076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9960" y="13478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30760" y="1763640"/>
            <a:ext cx="871560" cy="754200"/>
            <a:chOff x="5630760" y="1763640"/>
            <a:chExt cx="871560" cy="754200"/>
          </a:xfrm>
        </p:grpSpPr>
        <p:sp>
          <p:nvSpPr>
            <p:cNvPr id="308" name=""/>
            <p:cNvSpPr/>
            <p:nvPr/>
          </p:nvSpPr>
          <p:spPr>
            <a:xfrm>
              <a:off x="5630760" y="176364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2520" y="18763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013520" y="785880"/>
            <a:ext cx="558720" cy="597240"/>
            <a:chOff x="7013520" y="785880"/>
            <a:chExt cx="558720" cy="597240"/>
          </a:xfrm>
        </p:grpSpPr>
        <p:sp>
          <p:nvSpPr>
            <p:cNvPr id="311" name=""/>
            <p:cNvSpPr/>
            <p:nvPr/>
          </p:nvSpPr>
          <p:spPr>
            <a:xfrm>
              <a:off x="7013520" y="7858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95960" y="80316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999120" y="1311120"/>
            <a:ext cx="590760" cy="559080"/>
            <a:chOff x="6999120" y="1311120"/>
            <a:chExt cx="590760" cy="559080"/>
          </a:xfrm>
        </p:grpSpPr>
        <p:sp>
          <p:nvSpPr>
            <p:cNvPr id="314" name=""/>
            <p:cNvSpPr/>
            <p:nvPr/>
          </p:nvSpPr>
          <p:spPr>
            <a:xfrm>
              <a:off x="6999120" y="1311120"/>
              <a:ext cx="590760" cy="55908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01720" y="133812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932520" y="1754280"/>
            <a:ext cx="871560" cy="753840"/>
            <a:chOff x="6932520" y="1754280"/>
            <a:chExt cx="871560" cy="753840"/>
          </a:xfrm>
        </p:grpSpPr>
        <p:sp>
          <p:nvSpPr>
            <p:cNvPr id="317" name=""/>
            <p:cNvSpPr/>
            <p:nvPr/>
          </p:nvSpPr>
          <p:spPr>
            <a:xfrm>
              <a:off x="6932520" y="1754280"/>
              <a:ext cx="80496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64280" y="186696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32280" y="1770120"/>
            <a:ext cx="1379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92000" y="3048120"/>
            <a:ext cx="1756080" cy="753840"/>
            <a:chOff x="792000" y="3048120"/>
            <a:chExt cx="1756080" cy="753840"/>
          </a:xfrm>
        </p:grpSpPr>
        <p:grpSp>
          <p:nvGrpSpPr>
            <p:cNvPr id="321" name=""/>
            <p:cNvGrpSpPr/>
            <p:nvPr/>
          </p:nvGrpSpPr>
          <p:grpSpPr>
            <a:xfrm>
              <a:off x="792000" y="3200400"/>
              <a:ext cx="559080" cy="597600"/>
              <a:chOff x="792000" y="3200400"/>
              <a:chExt cx="559080" cy="597600"/>
            </a:xfrm>
          </p:grpSpPr>
          <p:sp>
            <p:nvSpPr>
              <p:cNvPr id="322" name=""/>
              <p:cNvSpPr/>
              <p:nvPr/>
            </p:nvSpPr>
            <p:spPr>
              <a:xfrm>
                <a:off x="792000" y="3200400"/>
                <a:ext cx="559080" cy="558720"/>
              </a:xfrm>
              <a:prstGeom prst="ellipse">
                <a:avLst/>
              </a:prstGeom>
              <a:solidFill>
                <a:srgbClr val="e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4800" y="3218040"/>
                <a:ext cx="393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282680" y="3218040"/>
              <a:ext cx="590400" cy="558720"/>
              <a:chOff x="1282680" y="3218040"/>
              <a:chExt cx="590400" cy="55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282680" y="3218040"/>
                <a:ext cx="590400" cy="558720"/>
              </a:xfrm>
              <a:prstGeom prst="ellips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85280" y="3244680"/>
                <a:ext cx="398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676520" y="3048120"/>
              <a:ext cx="871560" cy="753840"/>
              <a:chOff x="1676520" y="3048120"/>
              <a:chExt cx="87156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1676520" y="3048120"/>
                <a:ext cx="804600" cy="753840"/>
              </a:xfrm>
              <a:prstGeom prst="ellips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8280" y="3160800"/>
                <a:ext cx="739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B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4145040" y="3035160"/>
            <a:ext cx="558720" cy="597600"/>
            <a:chOff x="4145040" y="3035160"/>
            <a:chExt cx="558720" cy="597600"/>
          </a:xfrm>
        </p:grpSpPr>
        <p:sp>
          <p:nvSpPr>
            <p:cNvPr id="331" name=""/>
            <p:cNvSpPr/>
            <p:nvPr/>
          </p:nvSpPr>
          <p:spPr>
            <a:xfrm>
              <a:off x="4145040" y="303516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7480" y="305280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22680" y="3056040"/>
            <a:ext cx="590400" cy="558720"/>
            <a:chOff x="3622680" y="3056040"/>
            <a:chExt cx="590400" cy="558720"/>
          </a:xfrm>
        </p:grpSpPr>
        <p:sp>
          <p:nvSpPr>
            <p:cNvPr id="334" name=""/>
            <p:cNvSpPr/>
            <p:nvPr/>
          </p:nvSpPr>
          <p:spPr>
            <a:xfrm>
              <a:off x="3622680" y="305604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5280" y="30830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948040" y="3027240"/>
            <a:ext cx="871560" cy="754200"/>
            <a:chOff x="2948040" y="3027240"/>
            <a:chExt cx="871560" cy="754200"/>
          </a:xfrm>
        </p:grpSpPr>
        <p:sp>
          <p:nvSpPr>
            <p:cNvPr id="337" name=""/>
            <p:cNvSpPr/>
            <p:nvPr/>
          </p:nvSpPr>
          <p:spPr>
            <a:xfrm>
              <a:off x="2948040" y="302724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31399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343240" y="346536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566120" y="2924280"/>
            <a:ext cx="558720" cy="597240"/>
            <a:chOff x="7566120" y="2924280"/>
            <a:chExt cx="558720" cy="597240"/>
          </a:xfrm>
        </p:grpSpPr>
        <p:sp>
          <p:nvSpPr>
            <p:cNvPr id="341" name=""/>
            <p:cNvSpPr/>
            <p:nvPr/>
          </p:nvSpPr>
          <p:spPr>
            <a:xfrm>
              <a:off x="7566120" y="29242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48560" y="294156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043760" y="2944800"/>
            <a:ext cx="590400" cy="558720"/>
            <a:chOff x="7043760" y="2944800"/>
            <a:chExt cx="590400" cy="558720"/>
          </a:xfrm>
        </p:grpSpPr>
        <p:sp>
          <p:nvSpPr>
            <p:cNvPr id="344" name=""/>
            <p:cNvSpPr/>
            <p:nvPr/>
          </p:nvSpPr>
          <p:spPr>
            <a:xfrm>
              <a:off x="7043760" y="294480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46360" y="297180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727600" y="2817720"/>
            <a:ext cx="871560" cy="754200"/>
            <a:chOff x="5727600" y="2817720"/>
            <a:chExt cx="871560" cy="754200"/>
          </a:xfrm>
        </p:grpSpPr>
        <p:sp>
          <p:nvSpPr>
            <p:cNvPr id="347" name=""/>
            <p:cNvSpPr/>
            <p:nvPr/>
          </p:nvSpPr>
          <p:spPr>
            <a:xfrm>
              <a:off x="5727600" y="281772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59360" y="293040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054920" y="3666960"/>
            <a:ext cx="558720" cy="597600"/>
            <a:chOff x="7054920" y="3666960"/>
            <a:chExt cx="558720" cy="597600"/>
          </a:xfrm>
        </p:grpSpPr>
        <p:sp>
          <p:nvSpPr>
            <p:cNvPr id="350" name=""/>
            <p:cNvSpPr/>
            <p:nvPr/>
          </p:nvSpPr>
          <p:spPr>
            <a:xfrm>
              <a:off x="7054920" y="366696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37360" y="368460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45240" y="3684600"/>
            <a:ext cx="590760" cy="558720"/>
            <a:chOff x="7545240" y="3684600"/>
            <a:chExt cx="590760" cy="558720"/>
          </a:xfrm>
        </p:grpSpPr>
        <p:sp>
          <p:nvSpPr>
            <p:cNvPr id="353" name=""/>
            <p:cNvSpPr/>
            <p:nvPr/>
          </p:nvSpPr>
          <p:spPr>
            <a:xfrm>
              <a:off x="7545240" y="3684600"/>
              <a:ext cx="59076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47840" y="371160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737320" y="3495600"/>
            <a:ext cx="871560" cy="754200"/>
            <a:chOff x="5737320" y="3495600"/>
            <a:chExt cx="871560" cy="754200"/>
          </a:xfrm>
        </p:grpSpPr>
        <p:sp>
          <p:nvSpPr>
            <p:cNvPr id="356" name=""/>
            <p:cNvSpPr/>
            <p:nvPr/>
          </p:nvSpPr>
          <p:spPr>
            <a:xfrm>
              <a:off x="5737320" y="3495600"/>
              <a:ext cx="80460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9080" y="360828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816440" y="3478320"/>
            <a:ext cx="855720" cy="172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914560" y="4579920"/>
            <a:ext cx="1755720" cy="754200"/>
            <a:chOff x="2914560" y="4579920"/>
            <a:chExt cx="1755720" cy="754200"/>
          </a:xfrm>
        </p:grpSpPr>
        <p:grpSp>
          <p:nvGrpSpPr>
            <p:cNvPr id="360" name=""/>
            <p:cNvGrpSpPr/>
            <p:nvPr/>
          </p:nvGrpSpPr>
          <p:grpSpPr>
            <a:xfrm>
              <a:off x="2914560" y="4732200"/>
              <a:ext cx="558720" cy="597600"/>
              <a:chOff x="2914560" y="4732200"/>
              <a:chExt cx="558720" cy="597600"/>
            </a:xfrm>
          </p:grpSpPr>
          <p:sp>
            <p:nvSpPr>
              <p:cNvPr id="361" name=""/>
              <p:cNvSpPr/>
              <p:nvPr/>
            </p:nvSpPr>
            <p:spPr>
              <a:xfrm>
                <a:off x="2914560" y="4732200"/>
                <a:ext cx="558720" cy="559080"/>
              </a:xfrm>
              <a:prstGeom prst="ellipse">
                <a:avLst/>
              </a:prstGeom>
              <a:solidFill>
                <a:srgbClr val="e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97360" y="4749840"/>
                <a:ext cx="393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405240" y="4749840"/>
              <a:ext cx="590400" cy="558720"/>
              <a:chOff x="3405240" y="4749840"/>
              <a:chExt cx="590400" cy="558720"/>
            </a:xfrm>
          </p:grpSpPr>
          <p:sp>
            <p:nvSpPr>
              <p:cNvPr id="364" name=""/>
              <p:cNvSpPr/>
              <p:nvPr/>
            </p:nvSpPr>
            <p:spPr>
              <a:xfrm>
                <a:off x="3405240" y="4749840"/>
                <a:ext cx="590400" cy="558720"/>
              </a:xfrm>
              <a:prstGeom prst="ellips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07480" y="4776840"/>
                <a:ext cx="398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798720" y="4579920"/>
              <a:ext cx="871560" cy="754200"/>
              <a:chOff x="3798720" y="4579920"/>
              <a:chExt cx="871560" cy="75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3798720" y="4579920"/>
                <a:ext cx="804960" cy="754200"/>
              </a:xfrm>
              <a:prstGeom prst="ellips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30480" y="4692600"/>
                <a:ext cx="739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B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1851120" y="4683240"/>
            <a:ext cx="558720" cy="597240"/>
            <a:chOff x="1851120" y="4683240"/>
            <a:chExt cx="558720" cy="597240"/>
          </a:xfrm>
        </p:grpSpPr>
        <p:sp>
          <p:nvSpPr>
            <p:cNvPr id="370" name=""/>
            <p:cNvSpPr/>
            <p:nvPr/>
          </p:nvSpPr>
          <p:spPr>
            <a:xfrm>
              <a:off x="1851120" y="468324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33560" y="470052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328760" y="4703760"/>
            <a:ext cx="590400" cy="558720"/>
            <a:chOff x="1328760" y="4703760"/>
            <a:chExt cx="590400" cy="558720"/>
          </a:xfrm>
        </p:grpSpPr>
        <p:sp>
          <p:nvSpPr>
            <p:cNvPr id="373" name=""/>
            <p:cNvSpPr/>
            <p:nvPr/>
          </p:nvSpPr>
          <p:spPr>
            <a:xfrm>
              <a:off x="1328760" y="470376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31360" y="473076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54120" y="4675320"/>
            <a:ext cx="871560" cy="753840"/>
            <a:chOff x="654120" y="4675320"/>
            <a:chExt cx="871560" cy="753840"/>
          </a:xfrm>
        </p:grpSpPr>
        <p:sp>
          <p:nvSpPr>
            <p:cNvPr id="376" name=""/>
            <p:cNvSpPr/>
            <p:nvPr/>
          </p:nvSpPr>
          <p:spPr>
            <a:xfrm>
              <a:off x="654120" y="4675320"/>
              <a:ext cx="80496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5880" y="478800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775040" y="5108400"/>
            <a:ext cx="1379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5360" y="4808520"/>
            <a:ext cx="22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fca"/>
                </a:solidFill>
                <a:latin typeface="Courier New"/>
              </a:rPr>
              <a:t>No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k = zp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 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= 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is called the frequency factor = z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k = -(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)(1/T) + l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k vs t is a straigh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R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rates are taken over long inter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taneous rates are determined by finding the slope of a line tangent to the curve at any given point because the rate can change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iv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chanisms  and rat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activation energy for each elementary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determines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= Ae</a:t>
            </a:r>
            <a:r>
              <a:rPr b="0" lang="en-US" sz="4100" spc="-1" strike="noStrike" baseline="30000">
                <a:solidFill>
                  <a:srgbClr val="ffffff"/>
                </a:solidFill>
                <a:latin typeface="Arial"/>
              </a:rPr>
              <a:t>- (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100" spc="-1" strike="noStrike" baseline="30000">
                <a:solidFill>
                  <a:srgbClr val="ffffff"/>
                </a:solidFill>
                <a:latin typeface="Arial"/>
              </a:rPr>
              <a:t>/RT)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 determines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st step (rate determining) must have the highest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452556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75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This reaction takes place in three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11520" y="230652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2743200"/>
            <a:ext cx="0" cy="115740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71880" y="297972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43460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First step i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Second step is slow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High activation ener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68112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22840" y="1076400"/>
            <a:ext cx="0" cy="276696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84680" y="214308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26360" y="234000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93200" y="2752560"/>
            <a:ext cx="0" cy="48276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53240" y="268452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Third step is fas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Low activation ener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Second step is rate determin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86280" y="5315040"/>
            <a:ext cx="5294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Intermediates are presen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51320" y="3700440"/>
            <a:ext cx="770040" cy="152568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154480" y="3273480"/>
            <a:ext cx="1741680" cy="193680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11360" y="4202280"/>
            <a:ext cx="5096160" cy="1122120"/>
          </a:xfrm>
          <a:prstGeom prst="rect">
            <a:avLst/>
          </a:prstGeom>
          <a:noFill/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Activated Complexes or Transition Stat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86280" y="2781360"/>
            <a:ext cx="869760" cy="14097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07000" y="1090440"/>
            <a:ext cx="14400" cy="30369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222680" y="2781360"/>
            <a:ext cx="544680" cy="142704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up a reaction without being used up in th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are biological cataly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omogenous Cataly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in the same phase as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eterogeneous Cataly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in a different phase as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talysts Wor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allow reactions to proceed by a different mechanism - a new path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athway has a lower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will have this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hange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slop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200400"/>
            <a:ext cx="152280" cy="15228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352680"/>
            <a:ext cx="0" cy="13716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23880" y="4724280"/>
            <a:ext cx="1981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809880"/>
            <a:ext cx="12189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800600"/>
            <a:ext cx="1218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25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82720" y="1949400"/>
            <a:ext cx="996840" cy="542520"/>
            <a:chOff x="882720" y="1949400"/>
            <a:chExt cx="996840" cy="542520"/>
          </a:xfrm>
        </p:grpSpPr>
        <p:grpSp>
          <p:nvGrpSpPr>
            <p:cNvPr id="430" name=""/>
            <p:cNvGrpSpPr/>
            <p:nvPr/>
          </p:nvGrpSpPr>
          <p:grpSpPr>
            <a:xfrm>
              <a:off x="1339920" y="1949400"/>
              <a:ext cx="539640" cy="542520"/>
              <a:chOff x="1339920" y="1949400"/>
              <a:chExt cx="539640" cy="542520"/>
            </a:xfrm>
          </p:grpSpPr>
          <p:sp>
            <p:nvSpPr>
              <p:cNvPr id="431" name=""/>
              <p:cNvSpPr/>
              <p:nvPr/>
            </p:nvSpPr>
            <p:spPr>
              <a:xfrm>
                <a:off x="13399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86000" y="1976400"/>
                <a:ext cx="409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882720" y="1949400"/>
              <a:ext cx="539640" cy="542520"/>
              <a:chOff x="882720" y="1949400"/>
              <a:chExt cx="539640" cy="542520"/>
            </a:xfrm>
          </p:grpSpPr>
          <p:sp>
            <p:nvSpPr>
              <p:cNvPr id="434" name=""/>
              <p:cNvSpPr/>
              <p:nvPr/>
            </p:nvSpPr>
            <p:spPr>
              <a:xfrm>
                <a:off x="8827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28800" y="1976400"/>
                <a:ext cx="409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207200" y="2540160"/>
            <a:ext cx="996840" cy="542520"/>
            <a:chOff x="7207200" y="2540160"/>
            <a:chExt cx="996840" cy="542520"/>
          </a:xfrm>
        </p:grpSpPr>
        <p:grpSp>
          <p:nvGrpSpPr>
            <p:cNvPr id="437" name=""/>
            <p:cNvGrpSpPr/>
            <p:nvPr/>
          </p:nvGrpSpPr>
          <p:grpSpPr>
            <a:xfrm>
              <a:off x="7664400" y="2540160"/>
              <a:ext cx="539640" cy="542520"/>
              <a:chOff x="7664400" y="2540160"/>
              <a:chExt cx="539640" cy="542520"/>
            </a:xfrm>
          </p:grpSpPr>
          <p:sp>
            <p:nvSpPr>
              <p:cNvPr id="438" name=""/>
              <p:cNvSpPr/>
              <p:nvPr/>
            </p:nvSpPr>
            <p:spPr>
              <a:xfrm>
                <a:off x="76644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10480" y="2567160"/>
                <a:ext cx="409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207200" y="2540160"/>
              <a:ext cx="539640" cy="542520"/>
              <a:chOff x="7207200" y="2540160"/>
              <a:chExt cx="539640" cy="542520"/>
            </a:xfrm>
          </p:grpSpPr>
          <p:sp>
            <p:nvSpPr>
              <p:cNvPr id="441" name=""/>
              <p:cNvSpPr/>
              <p:nvPr/>
            </p:nvSpPr>
            <p:spPr>
              <a:xfrm>
                <a:off x="72072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53280" y="2567160"/>
                <a:ext cx="409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444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447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452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455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571840"/>
            <a:ext cx="4997520" cy="21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ydrogen bonds to surface of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Break H-H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63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468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471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476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479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11480" y="2787480"/>
            <a:ext cx="863640" cy="806760"/>
            <a:chOff x="3111480" y="2787480"/>
            <a:chExt cx="863640" cy="806760"/>
          </a:xfrm>
        </p:grpSpPr>
        <p:sp>
          <p:nvSpPr>
            <p:cNvPr id="485" name=""/>
            <p:cNvSpPr/>
            <p:nvPr/>
          </p:nvSpPr>
          <p:spPr>
            <a:xfrm>
              <a:off x="3111480" y="2787480"/>
              <a:ext cx="863640" cy="806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90760" y="289080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502000" y="3048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15880" y="323856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40160" y="32767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59120" y="320040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197240" y="2921040"/>
            <a:ext cx="540000" cy="542520"/>
            <a:chOff x="4197240" y="2921040"/>
            <a:chExt cx="540000" cy="542520"/>
          </a:xfrm>
        </p:grpSpPr>
        <p:sp>
          <p:nvSpPr>
            <p:cNvPr id="492" name=""/>
            <p:cNvSpPr/>
            <p:nvPr/>
          </p:nvSpPr>
          <p:spPr>
            <a:xfrm>
              <a:off x="419724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3320" y="29480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35000" y="2940120"/>
            <a:ext cx="539640" cy="542520"/>
            <a:chOff x="1035000" y="2940120"/>
            <a:chExt cx="539640" cy="542520"/>
          </a:xfrm>
        </p:grpSpPr>
        <p:sp>
          <p:nvSpPr>
            <p:cNvPr id="495" name=""/>
            <p:cNvSpPr/>
            <p:nvPr/>
          </p:nvSpPr>
          <p:spPr>
            <a:xfrm>
              <a:off x="1035000" y="29401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1080" y="2967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841400" y="2813040"/>
            <a:ext cx="851040" cy="793800"/>
            <a:chOff x="1841400" y="2813040"/>
            <a:chExt cx="851040" cy="793800"/>
          </a:xfrm>
        </p:grpSpPr>
        <p:sp>
          <p:nvSpPr>
            <p:cNvPr id="498" name=""/>
            <p:cNvSpPr/>
            <p:nvPr/>
          </p:nvSpPr>
          <p:spPr>
            <a:xfrm>
              <a:off x="1841400" y="281304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14560" y="290988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2228760" y="241272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524400" y="245124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44680" y="2044800"/>
            <a:ext cx="540000" cy="542520"/>
            <a:chOff x="3244680" y="2044800"/>
            <a:chExt cx="540000" cy="542520"/>
          </a:xfrm>
        </p:grpSpPr>
        <p:sp>
          <p:nvSpPr>
            <p:cNvPr id="503" name=""/>
            <p:cNvSpPr/>
            <p:nvPr/>
          </p:nvSpPr>
          <p:spPr>
            <a:xfrm>
              <a:off x="3244680" y="204480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0760" y="20718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968480" y="2044800"/>
            <a:ext cx="539640" cy="542520"/>
            <a:chOff x="1968480" y="2044800"/>
            <a:chExt cx="539640" cy="542520"/>
          </a:xfrm>
        </p:grpSpPr>
        <p:sp>
          <p:nvSpPr>
            <p:cNvPr id="506" name=""/>
            <p:cNvSpPr/>
            <p:nvPr/>
          </p:nvSpPr>
          <p:spPr>
            <a:xfrm>
              <a:off x="1968480" y="204480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4560" y="20718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510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515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518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523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526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532" name="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81480" y="38815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492360" y="40384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06600" y="42292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49840" y="4191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187960" y="3911760"/>
            <a:ext cx="539640" cy="542520"/>
            <a:chOff x="5187960" y="3911760"/>
            <a:chExt cx="539640" cy="542520"/>
          </a:xfrm>
        </p:grpSpPr>
        <p:sp>
          <p:nvSpPr>
            <p:cNvPr id="538" name="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34040" y="39387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025720" y="3930480"/>
            <a:ext cx="539640" cy="542520"/>
            <a:chOff x="2025720" y="3930480"/>
            <a:chExt cx="539640" cy="542520"/>
          </a:xfrm>
        </p:grpSpPr>
        <p:sp>
          <p:nvSpPr>
            <p:cNvPr id="541" name="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71800" y="395748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544" name="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05280" y="3900600"/>
              <a:ext cx="618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 flipV="1">
            <a:off x="3219480" y="340308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51476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235400" y="3035160"/>
            <a:ext cx="539640" cy="542520"/>
            <a:chOff x="4235400" y="3035160"/>
            <a:chExt cx="539640" cy="542520"/>
          </a:xfrm>
        </p:grpSpPr>
        <p:sp>
          <p:nvSpPr>
            <p:cNvPr id="549" name="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81480" y="30621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959200" y="3035160"/>
            <a:ext cx="539640" cy="542520"/>
            <a:chOff x="2959200" y="3035160"/>
            <a:chExt cx="539640" cy="542520"/>
          </a:xfrm>
        </p:grpSpPr>
        <p:sp>
          <p:nvSpPr>
            <p:cNvPr id="552" name="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05280" y="306216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 flipV="1">
            <a:off x="3276720" y="44510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533840" y="439380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double bond breaks and bonds to the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559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564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567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572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575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581" name="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1480" y="38815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492360" y="40384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06600" y="42292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49840" y="4191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187960" y="3911760"/>
            <a:ext cx="539640" cy="542520"/>
            <a:chOff x="5187960" y="3911760"/>
            <a:chExt cx="539640" cy="542520"/>
          </a:xfrm>
        </p:grpSpPr>
        <p:sp>
          <p:nvSpPr>
            <p:cNvPr id="587" name="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34040" y="39387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025720" y="3930480"/>
            <a:ext cx="539640" cy="542520"/>
            <a:chOff x="2025720" y="3930480"/>
            <a:chExt cx="539640" cy="542520"/>
          </a:xfrm>
        </p:grpSpPr>
        <p:sp>
          <p:nvSpPr>
            <p:cNvPr id="590" name="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71800" y="395748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593" name="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5280" y="3900600"/>
              <a:ext cx="618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 flipV="1">
            <a:off x="3219480" y="340308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51476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235400" y="3035160"/>
            <a:ext cx="539640" cy="542520"/>
            <a:chOff x="4235400" y="3035160"/>
            <a:chExt cx="539640" cy="542520"/>
          </a:xfrm>
        </p:grpSpPr>
        <p:sp>
          <p:nvSpPr>
            <p:cNvPr id="598" name="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81480" y="30621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959200" y="3035160"/>
            <a:ext cx="539640" cy="542520"/>
            <a:chOff x="2959200" y="3035160"/>
            <a:chExt cx="539640" cy="542520"/>
          </a:xfrm>
        </p:grpSpPr>
        <p:sp>
          <p:nvSpPr>
            <p:cNvPr id="601" name="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05280" y="306216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flipV="1">
            <a:off x="3276720" y="44510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533840" y="439380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hydrogen atoms bond with the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0800000">
            <a:off x="4511160" y="3043440"/>
            <a:ext cx="231084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" y="8659"/>
                </a:moveTo>
                <a:arcTo wR="10800" hR="10800" stAng="-10114093" swAng="8773727"/>
                <a:lnTo>
                  <a:pt x="10800" y="10800"/>
                </a:lnTo>
                <a:close/>
              </a:path>
              <a:path fill="none" w="21600" h="21600">
                <a:moveTo>
                  <a:pt x="214" y="8659"/>
                </a:moveTo>
                <a:arcTo wR="10800" hR="10800" stAng="-10114093" swAng="8773727"/>
              </a:path>
            </a:pathLst>
          </a:custGeom>
          <a:noFill/>
          <a:ln cap="rnd" w="50760">
            <a:solidFill>
              <a:srgbClr val="e8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0800000">
            <a:off x="2102040" y="3296160"/>
            <a:ext cx="1172520" cy="266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23"/>
                </a:moveTo>
                <a:arcTo wR="10800" hR="10800" stAng="10665438" swAng="9362289"/>
                <a:lnTo>
                  <a:pt x="10800" y="10800"/>
                </a:lnTo>
                <a:close/>
              </a:path>
              <a:path fill="none" w="21600" h="21600">
                <a:moveTo>
                  <a:pt x="8" y="11223"/>
                </a:moveTo>
                <a:arcTo wR="10800" hR="10800" stAng="10665438" swAng="9362289"/>
              </a:path>
            </a:pathLst>
          </a:custGeom>
          <a:noFill/>
          <a:ln cap="rnd"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610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616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006800" y="2768760"/>
            <a:ext cx="863640" cy="806400"/>
            <a:chOff x="4006800" y="2768760"/>
            <a:chExt cx="863640" cy="806400"/>
          </a:xfrm>
        </p:grpSpPr>
        <p:sp>
          <p:nvSpPr>
            <p:cNvPr id="621" name=""/>
            <p:cNvSpPr/>
            <p:nvPr/>
          </p:nvSpPr>
          <p:spPr>
            <a:xfrm>
              <a:off x="4006800" y="276876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6080" y="28717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3454560" y="320040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11560" y="321948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54440" y="318132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092560" y="2901960"/>
            <a:ext cx="540000" cy="542520"/>
            <a:chOff x="5092560" y="2901960"/>
            <a:chExt cx="540000" cy="542520"/>
          </a:xfrm>
        </p:grpSpPr>
        <p:sp>
          <p:nvSpPr>
            <p:cNvPr id="627" name=""/>
            <p:cNvSpPr/>
            <p:nvPr/>
          </p:nvSpPr>
          <p:spPr>
            <a:xfrm>
              <a:off x="5092560" y="290196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8640" y="29289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930320" y="2921040"/>
            <a:ext cx="540000" cy="542520"/>
            <a:chOff x="1930320" y="2921040"/>
            <a:chExt cx="540000" cy="542520"/>
          </a:xfrm>
        </p:grpSpPr>
        <p:sp>
          <p:nvSpPr>
            <p:cNvPr id="630" name=""/>
            <p:cNvSpPr/>
            <p:nvPr/>
          </p:nvSpPr>
          <p:spPr>
            <a:xfrm>
              <a:off x="193032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76400" y="29480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36720" y="2793960"/>
            <a:ext cx="851040" cy="793800"/>
            <a:chOff x="2736720" y="2793960"/>
            <a:chExt cx="851040" cy="793800"/>
          </a:xfrm>
        </p:grpSpPr>
        <p:sp>
          <p:nvSpPr>
            <p:cNvPr id="633" name=""/>
            <p:cNvSpPr/>
            <p:nvPr/>
          </p:nvSpPr>
          <p:spPr>
            <a:xfrm>
              <a:off x="2736720" y="27939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9880" y="289080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3124080" y="23936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419720" y="243216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140360" y="2025720"/>
            <a:ext cx="539640" cy="542520"/>
            <a:chOff x="4140360" y="2025720"/>
            <a:chExt cx="539640" cy="542520"/>
          </a:xfrm>
        </p:grpSpPr>
        <p:sp>
          <p:nvSpPr>
            <p:cNvPr id="638" name=""/>
            <p:cNvSpPr/>
            <p:nvPr/>
          </p:nvSpPr>
          <p:spPr>
            <a:xfrm>
              <a:off x="414036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86080" y="20527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2863800" y="2025720"/>
            <a:ext cx="539640" cy="542520"/>
            <a:chOff x="2863800" y="2025720"/>
            <a:chExt cx="539640" cy="542520"/>
          </a:xfrm>
        </p:grpSpPr>
        <p:sp>
          <p:nvSpPr>
            <p:cNvPr id="641" name=""/>
            <p:cNvSpPr/>
            <p:nvPr/>
          </p:nvSpPr>
          <p:spPr>
            <a:xfrm>
              <a:off x="286380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09880" y="20527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318132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438800" y="338472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178160" y="3759120"/>
            <a:ext cx="540000" cy="542520"/>
            <a:chOff x="4178160" y="3759120"/>
            <a:chExt cx="540000" cy="542520"/>
          </a:xfrm>
        </p:grpSpPr>
        <p:sp>
          <p:nvSpPr>
            <p:cNvPr id="646" name=""/>
            <p:cNvSpPr/>
            <p:nvPr/>
          </p:nvSpPr>
          <p:spPr>
            <a:xfrm>
              <a:off x="4178160" y="375912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24240" y="3786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006960" y="3759120"/>
            <a:ext cx="540000" cy="542520"/>
            <a:chOff x="6006960" y="3759120"/>
            <a:chExt cx="540000" cy="542520"/>
          </a:xfrm>
        </p:grpSpPr>
        <p:sp>
          <p:nvSpPr>
            <p:cNvPr id="649" name=""/>
            <p:cNvSpPr/>
            <p:nvPr/>
          </p:nvSpPr>
          <p:spPr>
            <a:xfrm>
              <a:off x="6006960" y="375912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53040" y="3786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901960" y="3797280"/>
            <a:ext cx="539640" cy="542520"/>
            <a:chOff x="2901960" y="3797280"/>
            <a:chExt cx="539640" cy="542520"/>
          </a:xfrm>
        </p:grpSpPr>
        <p:sp>
          <p:nvSpPr>
            <p:cNvPr id="652" name=""/>
            <p:cNvSpPr/>
            <p:nvPr/>
          </p:nvSpPr>
          <p:spPr>
            <a:xfrm>
              <a:off x="2901960" y="379728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48040" y="382428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m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ofluorocarbons catalyze the decomposition of o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regulating the body processes. (Protein cataly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 and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will speed up a reaction but only to a certai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a certain point adding more reactants won’t change the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 and rate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1333440"/>
            <a:ext cx="7562880" cy="42102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71800" y="5500800"/>
            <a:ext cx="652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centration of 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0680" y="2319480"/>
            <a:ext cx="31428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10800000">
            <a:off x="914400" y="2508480"/>
            <a:ext cx="7073640" cy="61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17600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176003"/>
              </a:path>
            </a:pathLst>
          </a:custGeom>
          <a:noFill/>
          <a:ln cap="rnd" w="507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2514600"/>
            <a:ext cx="4216320" cy="0"/>
          </a:xfrm>
          <a:prstGeom prst="line">
            <a:avLst/>
          </a:prstGeom>
          <a:ln w="507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47480" y="3276360"/>
            <a:ext cx="6838920" cy="215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ate increases until the active sites of catalyst are fil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n rate is independent of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taneous slop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1219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79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[H</a:t>
            </a:r>
            <a:r>
              <a:rPr b="0" lang="en-US" sz="3200" spc="-1" strike="noStrike" u="sng" baseline="-25000">
                <a:solidFill>
                  <a:srgbClr val="00279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2210040" cy="152388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fining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define rate in terms of the disappearance of the reactant or in terms of the rate of appearance of th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ur 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4956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3:16:54Z</dcterms:created>
  <dc:creator>Thomas V. Green Jr.</dc:creator>
  <dc:description/>
  <dc:language>en-US</dc:language>
  <cp:lastModifiedBy>FPS</cp:lastModifiedBy>
  <dcterms:modified xsi:type="dcterms:W3CDTF">2008-10-27T13:01:28Z</dcterms:modified>
  <cp:revision>16</cp:revision>
  <dc:subject/>
  <dc:title>Kinetics</dc:title>
</cp:coreProperties>
</file>